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1F36-DFB2-40A2-AB80-534FDEF9D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1F96-C8FB-4690-B30F-903C03D6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1551-8FAD-4198-8B42-BBE313B97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1C84-52EE-4355-8A34-5F07F50CD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55A9-FE6C-425A-B753-48D959DA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B090-ED9E-448A-9070-84A41DB9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7BA0-8148-4474-9868-1473F1C0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93D9-0D88-4287-8203-FD5A6618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4099-A74A-4390-9E69-AACFB4B0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1695-3C81-4B0B-B934-6A800E03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A0DE-7DD2-4E78-B5C2-330625E9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0B19-C753-4F95-B809-40CC371D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1F54-6A8A-400E-9B3B-05E03361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3731-7E77-4955-B4E3-4DA7BA04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C1CC-30CC-4850-8274-110D3EEA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4A5B-1D08-4CB9-831A-09B22EB0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AE12-3C03-4BA6-B2A3-8BE7C7BF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A2928-24BB-478A-BE9A-FDF0D275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327DD-B1EA-42F2-8274-8D0B96A0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79B55-2D3D-4686-9731-895C6EBB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E9453-796F-4293-ABF4-6A007EF3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1BC0F-8624-4493-893B-986E3194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65462-6F67-4CD8-9C0A-E80D704E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85BD5-4B6D-4A18-B45D-08EAD99E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48F1C-FB08-47FE-8345-7516936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F1D2B-52F8-4C84-82CF-8F5EB211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C63DF-1536-43C6-A53C-87D55832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4737D-7CEB-49E0-9FB0-C8512FDC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3AAA1-AC1D-4CEE-A756-45936AEE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E41C8-3911-4B88-8F3A-9B9D8AF2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EB038-BA1F-45BF-BC31-7A69CF55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C6D57-20A4-4474-B1A4-57383D7D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296AB-0805-4885-B2CC-7156610B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A24CA-CA4D-4F18-A32F-29246DC4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DBA0A-1280-4DA7-975B-9E8A6E21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5C8E8-2983-45C5-AB2A-8771E05F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157D2-CEB6-4220-9DAE-A9F59D07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49882-5349-44C0-9C8A-0744CF4F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A87CA-7729-4CCF-95EB-DC822271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C7273-1D7C-40CA-8DDF-964E0A8E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B5824-9FB0-405F-995A-14E03772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733E-255E-4CB6-A763-511CF5604E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D33D-0ADD-4DD0-9913-07C94C69F2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4F1D-130A-4D80-8BFE-0179FD0370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8139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ЦЕУТ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878000" y="551664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11280" y="1773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ексципијен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допуњавање (за постизање одређене масе табле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везивање (за постизање одређене чврст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адхезивна средства (за редукцију адхез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бриканти (за превенцију лепљења таблета за матрицу маш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лизање (за побољшање проточности ма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облаг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егратори (средства за распад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(микробиолошка стабилно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ађив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 фармацеутских дозираних о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1989000"/>
            <a:ext cx="180000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тички гас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268360" y="2708280"/>
            <a:ext cx="2087640" cy="1490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716360" y="3716280"/>
            <a:ext cx="1943280" cy="172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020000" y="4508640"/>
            <a:ext cx="1944720" cy="194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3059280" y="1844640"/>
            <a:ext cx="60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физичким особинама (конзистенцији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фармацеутских облика према месту примен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91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о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паренте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офталмолошк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примену у у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примену у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примену на кож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рект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вагин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оралну слуз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степену дисперзитета лековит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228708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и дисперзни системи (&lt; 1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и дисперзни системи (1 nm – 1 µ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и дисперзни системи (˃ 1 µ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брзини ослобађања лековит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онални лековити обл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са модификованим ослобађ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лековима и медицинским средствима (Сл. Гласник Р. Србије бр. 30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је производ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ставља у промет у одређеној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јачин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армацеутском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лик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ковањ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који садржи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станцу или комбинацију супстанц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ју се показало да има својство да лечи или спречава болести код људи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 животиња, као и супстанцу или комбинацију супстанци која се може користити или примењивати на људима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 животињама, било са намером да се поново успостави, побољша или измени физиолошка функција путе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ог, имунолошког или метаболичког дејства или да се постави медицинска дијагно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става 1. овог члана је свака материја која може би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уманог порекл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в и производи из крв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животињског порекл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кроорганизми, целе животиње, делови органа, животињски секрети, токсини, екстракти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из крв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иљног порекл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кроорганизми, целе биљке, делови биљака, биљни секрети, екстракт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емијског порекл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емијски елементи, хемијске супстанце које се у природи налазе у датом облику, као и хемијски производи добијени хемијском променом или синтез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 и компоненте крв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е трансфузији не сматрају се леком у смислу овог зак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416560" y="395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7575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836784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786456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7359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сте леков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 за НАПРЕДНУ ТЕРАП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ви из КРВИ и КРВНЕ 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И лек и ТРАДИЦИОНАЛНИ БИЉН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ЕОПАТСК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СК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И И ГАЛЕНСК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лековима и медицинским средствима (Сл. Гласник Р Србије бр. 30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гистрални ле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ек израђен у апотеци по рецепту (формули) за одређеног пацијента, односно корис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ленски ле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ек израђен на основу важеће литературе (фармакопеја или магистралне формуле) у галенск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раторији и намењен је за пацијенте апотеке или друге здравствене установе, када не постоји или није доступан л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лековима и медицинским средствима (Сл. Гласник Р Србије бр. 30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4000" y="236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збирка прописаних норми и стандарда за супстанце и израду лекова којима се одређује њихова идентификација, карактеристике, квалитет, начин припремања и анал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armacon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eo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лековима и медицинским средствима (Сл. Гласник Р Србије бр. 30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poea Jugoslavica Editio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. I) - 1933.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poea Jugoslavica Editio Secu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. II) - 1953.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poea Jugoslavica Editio Ter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. III) - 1972.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poea Jugoslavica Editio Qu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. IV) - 1984.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D:\Far.tehnologija 1\2020 21\179px-Sa_farmakopeja_1.jpg"/>
          <p:cNvPicPr/>
          <p:nvPr/>
        </p:nvPicPr>
        <p:blipFill>
          <a:blip r:embed="rId1"/>
          <a:stretch/>
        </p:blipFill>
        <p:spPr>
          <a:xfrm>
            <a:off x="7439040" y="0"/>
            <a:ext cx="1704960" cy="2495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324000" y="98064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poea Jugoslavica 2000 (Editio Quinta) (Ph. Ju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) - 2000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-3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UROPEAN PHARMACOPOEIA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7.0 –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опска фармак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пеја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7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0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мо издање, на снази од 2011. год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UROPEAN PHARMACOPOEIA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0 –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опска фармакопеј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 издање, на снази од 201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д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UROPEAN PHARMACOPOEIA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0 –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опска фармакопеј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ето издање, на снази од 2017. год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UROPEAN PHARMACOPOEIA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10.0 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опска фармакопеј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то издање, на снази од 2021. год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пска фармакопеја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 заједничке и обавезујуће стандарде којима гарантује квалитет лекова у свим државама чланицама. Сви састојци који улазе у састав лекова за људе и животиње стандардизовани су, као и методе анализе, ради осигурања квалитета оптималног за здравље пацијента. Та се стандардизација одвија у складу са Европском конвенцијом коју је ратификовало 36 земаља чланице Конвенције и Европска унија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ако до оцене у индек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557360"/>
          <a:ext cx="8856720" cy="5100480"/>
        </p:xfrm>
        <a:graphic>
          <a:graphicData uri="http://schemas.openxmlformats.org/drawingml/2006/table">
            <a:tbl>
              <a:tblPr/>
              <a:tblGrid>
                <a:gridCol w="504720"/>
                <a:gridCol w="2876760"/>
                <a:gridCol w="1294200"/>
                <a:gridCol w="172800"/>
                <a:gridCol w="1563840"/>
                <a:gridCol w="1438560"/>
                <a:gridCol w="1005840"/>
              </a:tblGrid>
              <a:tr h="274680"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НО ПО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 у току наста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и исп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рш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од у фармацеутску технологију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шкови; Раствори; Екстрактив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арати; Амбалажа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Суспензије; Емулз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9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е стерилизације; Изотонизација;  Офталмолошки препарати;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лучврсти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арати;  Реологија; Чврсти лековити обл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0629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1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рилагођени превод дела Европск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uropean pharmacopoeia 3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ition) (Ph.Eur.III)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књига је општи део који садржи преводе поглављ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 напоме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анализ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за израду амбалаже и контејнер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поглављ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 текста Опште монографије лековитих препарат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2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 прилагођени превод монографија материје медике из Ph.Eur. треће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 број монографија је модификован према додацим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199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Европску фармакопеј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јални део Југословенске фармакопеје разврстава официналне монографије у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цел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и помоћних супстан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јни и хируршки матер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, серуми и деривати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280" y="404640"/>
            <a:ext cx="80629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садрже следеће делов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е атомск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е м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епена чисто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ђ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0" y="1413000"/>
            <a:ext cx="45720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зор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чисто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не физичке особ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тне супстанц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ферентни препарати и референтни спек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74560" y="4437000"/>
            <a:ext cx="7993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из наведених целина означене су оригиналним бројевима из Ph.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и монографија су написани на српском језику, а поднаслови на латинском језик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 назива на српском језику, могу да се користе латински називи као и синоними за које овлашћена установа објави да су еквивалент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900000" y="3835440"/>
            <a:ext cx="7920000" cy="0"/>
          </a:xfrm>
          <a:prstGeom prst="line">
            <a:avLst/>
          </a:prstGeom>
          <a:ln cap="rnd" w="63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24000" y="1268280"/>
            <a:ext cx="8496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ци фармакопејам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E MAGISTRALES ET REAGENTIA (F. M. I, II i III)    </a:t>
            </a:r>
            <a:br>
              <a:rPr sz="2000"/>
            </a:b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M. III  (1979. g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E MAGISTRALES 2008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5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чка фармакопе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ed States Pharmacopei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P)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National Formulary – NF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P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NF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god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чка фармакопе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tsche Arzneibuch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AB)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tsch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Arzneimittel-Codex - DA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ues Rezeptur-Formularium - NRF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 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(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g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ка фармакопе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ritish Pharmacopoeia – B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 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г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usp"/>
          <p:cNvPicPr/>
          <p:nvPr/>
        </p:nvPicPr>
        <p:blipFill>
          <a:blip r:embed="rId1"/>
          <a:stretch/>
        </p:blipFill>
        <p:spPr>
          <a:xfrm>
            <a:off x="4356000" y="1628640"/>
            <a:ext cx="2540160" cy="14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7034040" y="2092320"/>
            <a:ext cx="1678320" cy="217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7093080" y="4292640"/>
            <a:ext cx="1560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24000" y="1152360"/>
            <a:ext cx="842472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супстанце и препарати који су прописани у фармакопејама и магистралним формулама називају с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ИЦИНАЛ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P 30 - NF25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квиру погл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Y COMPOUNDING PRACTICES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 захтеве и препоруке за израду фармацеутских препарата у условима апотеке, намењених индивидуалној терап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150920" y="3429000"/>
            <a:ext cx="68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ТЕК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 грчког порекл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иште, слагалиш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 О Т Е К 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D:\Far.tehnologija 1\2020 21\download.jpg"/>
          <p:cNvPicPr/>
          <p:nvPr/>
        </p:nvPicPr>
        <p:blipFill>
          <a:blip r:embed="rId1"/>
          <a:stretch/>
        </p:blipFill>
        <p:spPr>
          <a:xfrm>
            <a:off x="0" y="4365720"/>
            <a:ext cx="4756320" cy="2205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Apoteka – mesto odakle se razvijala svest društvene zajednice - MediaSfera"/>
          <p:cNvPicPr/>
          <p:nvPr/>
        </p:nvPicPr>
        <p:blipFill>
          <a:blip r:embed="rId2"/>
          <a:stretch/>
        </p:blipFill>
        <p:spPr>
          <a:xfrm>
            <a:off x="5651640" y="2349360"/>
            <a:ext cx="3292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98640" y="260280"/>
            <a:ext cx="71467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587520" y="0"/>
            <a:ext cx="7956360" cy="61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тека је здравствена установа у којој се обавља фармацеутска здравствена делатост на примарном нивоу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ј заштит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ени гласник Р Срби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/0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потеци се обавља фармацеутска здравствена делатност која обухв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моцију зд</a:t>
            </a:r>
            <a:r>
              <a:rPr b="1" lang="sr-R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вљ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 здравствено васпитање и саветовање за очување и унапређење з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ља правилном употребом лекова и одређених врста медицинских средстав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мет на мало леков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ђених врста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дицинских средста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основу планова за набавку лекова и медицинских средстава зa редовне и ванредне потреб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ћење савремених стручних и научних достигнућ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асти фармакотерапије и пружање грађанима, здравственим радницима, другим здравственим установама и приватној пракси, као и другим заинтересованим субјектима, информација о лековима и одређеним врстама медицинских средст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авање савета пацијентим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a правилну употребу лекова и одређених врста медицинских средстава, односно упутстава за њихову правилну употре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зраду магистралних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  Друге послове, у складу са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И АПОТЕ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08000" y="1676520"/>
            <a:ext cx="864072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члану 45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а о ближим условима за обављање здравствене делатности у здравственим установама и другим облицима здравствене служб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бављање здравствене делатности у апотеци поједине простори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зависности од намене треба да имају следеће површи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а за израду магистралних лекова и за прање посуђ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 са санитарним чвор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24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И АПОТЕ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51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ФИЦИНИ с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ју и израђују лекови према рецепти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ју лекови без рецеп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ши продаја средстава з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у хигијену,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етског материјала  и друге робе коју наба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а апотек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 прода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алном делу апотеке се налаз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УР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 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ругом делу официне где се израђују лекови 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ЈНИЦА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чувају лековите и помоћне супстанце, адекватн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Apoteka Novi Sad Bulevar oslobodjenja | Apoteka Laurus"/>
          <p:cNvPicPr/>
          <p:nvPr/>
        </p:nvPicPr>
        <p:blipFill>
          <a:blip r:embed="rId1"/>
          <a:stretch/>
        </p:blipFill>
        <p:spPr>
          <a:xfrm>
            <a:off x="5651640" y="1557360"/>
            <a:ext cx="2952720" cy="2116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Two vials of apothecary &amp;quot;Pharmacie Metedier&amp;quot; 13 cm | Selency"/>
          <p:cNvPicPr/>
          <p:nvPr/>
        </p:nvPicPr>
        <p:blipFill>
          <a:blip r:embed="rId2"/>
          <a:stretch/>
        </p:blipFill>
        <p:spPr>
          <a:xfrm>
            <a:off x="5508720" y="36450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да галенска фарм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фармацеутска техн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hnos, teh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еш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ност  и  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 дисциплина која проучава формулацију, израду и карактеристике лековитих препарата у циљу постизања оптималне испоруке и фармакокинетике лековите супстанце, као и прихватљивости лека од стране 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све факторе везане за лековити препарат, помоћне материје и фармацеутско-технолошке поступке израде, испитивање квалитета и услове чув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657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И АПОТЕ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ка је простор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ој с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рв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ИР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пара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320840" y="4365720"/>
            <a:ext cx="71280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те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лари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у за дежурств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1079640" y="4292640"/>
            <a:ext cx="7343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703440" y="1976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е и препоруке које се дају под наслов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ставни део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рмакопејског захтев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а овлашћена установа може да специфицир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 услове чувања који морају да се задовољ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и описани у Фармакопеји се чувају тако да се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речи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аминац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о год је то могућ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рење препара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препоручују посебни услови чувањ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јучујући и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сту контејнера и температурне границ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е се у монографиј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ада у домен наднационалног и националног законског прописа и међународног договор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г разлога одредбе под насловом Означав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 свеобухват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ви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пејске сврх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итније су и обавезне оне које показују да ли је производ у складу са захтевима монографи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одредбе везане за означавање се дају као препор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68920" y="1052640"/>
            <a:ext cx="860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Х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Х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 V, Vol.1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 напомен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 И ОЗНАЧАВАЊЕ ЛЕКОВИТ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 IV, Vol.1, 2-020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 и означавање леко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000"/>
            </a:b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ви слабог деловањ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= 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 се у добро затвореним посуд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вом мест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штићено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е светл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ператури д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 означен 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има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384720" y="4653000"/>
            <a:ext cx="281916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UM BOR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ек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DIA SEPAR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ој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рвеним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има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†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GENTI NI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p.d. 0,03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d.d. 0,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2916360" y="4365720"/>
            <a:ext cx="331128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врло јаког 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DIA CLAUDEND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EN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1840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 се одвојено од осталих лекова и под кључ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а два крст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ив 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 означен 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м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има 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ом пољ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а појединачна и дневна д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Rectangle 4" descr=""/>
          <p:cNvPicPr/>
          <p:nvPr/>
        </p:nvPicPr>
        <p:blipFill>
          <a:blip r:embed="rId1"/>
          <a:stretch/>
        </p:blipFill>
        <p:spPr>
          <a:xfrm>
            <a:off x="3078000" y="4432320"/>
            <a:ext cx="2994120" cy="14619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"/>
          <p:cNvSpPr/>
          <p:nvPr/>
        </p:nvSpPr>
        <p:spPr>
          <a:xfrm>
            <a:off x="-396720" y="42530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ОПОЈНЕ ДР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94616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 се према прописима Закона о производњи и промету oпојних дро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зна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еко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 јаког или врло јаког дело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352680" y="3886200"/>
            <a:ext cx="2971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BARBITO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p.d. 0,3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d.d. 0,6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ДИОАКТИВНИ ПРЕПАРАТИ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рвени сегмен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ом пољ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 се према посебним пропис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3780000" y="4005360"/>
            <a:ext cx="1444320" cy="1371600"/>
            <a:chOff x="3780000" y="4005360"/>
            <a:chExt cx="1444320" cy="1371600"/>
          </a:xfrm>
        </p:grpSpPr>
        <p:sp>
          <p:nvSpPr>
            <p:cNvPr id="265" name="Rectangle 5"/>
            <p:cNvSpPr/>
            <p:nvPr/>
          </p:nvSpPr>
          <p:spPr>
            <a:xfrm>
              <a:off x="3780000" y="4005360"/>
              <a:ext cx="1444320" cy="137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6"/>
            <p:cNvGrpSpPr/>
            <p:nvPr/>
          </p:nvGrpSpPr>
          <p:grpSpPr>
            <a:xfrm>
              <a:off x="3991680" y="4209120"/>
              <a:ext cx="990360" cy="943200"/>
              <a:chOff x="3991680" y="4209120"/>
              <a:chExt cx="990360" cy="943200"/>
            </a:xfrm>
          </p:grpSpPr>
          <p:sp>
            <p:nvSpPr>
              <p:cNvPr id="267" name="AutoShape 7"/>
              <p:cNvSpPr/>
              <p:nvPr/>
            </p:nvSpPr>
            <p:spPr>
              <a:xfrm rot="10800000">
                <a:off x="4321080" y="4209120"/>
                <a:ext cx="320760" cy="5140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"/>
              <p:cNvSpPr/>
              <p:nvPr/>
            </p:nvSpPr>
            <p:spPr>
              <a:xfrm rot="3447000">
                <a:off x="4115160" y="4637520"/>
                <a:ext cx="342720" cy="4813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9"/>
              <p:cNvSpPr/>
              <p:nvPr/>
            </p:nvSpPr>
            <p:spPr>
              <a:xfrm rot="17988600">
                <a:off x="4516560" y="4626000"/>
                <a:ext cx="342720" cy="4813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ФА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офарм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чна дисциплина која изучава односе између физичко-хемијских особина лековите супстанце и њеног лековитог облика, са једне ст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расположивости лековите супстанце у организм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 који лек.супст. треба да прође од формулације у лековити облик – до места апсорп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акторе од утиц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929600" y="-304920"/>
            <a:ext cx="5042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98320" y="1176480"/>
          <a:ext cx="4118040" cy="822240"/>
        </p:xfrm>
        <a:graphic>
          <a:graphicData uri="http://schemas.openxmlformats.org/drawingml/2006/table">
            <a:tbl>
              <a:tblPr/>
              <a:tblGrid>
                <a:gridCol w="41180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ИЗБОР ЛЕКОВИТОГ О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ИЗБОР ПОМОЋНИХ МАТЕР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ИЗБОР</a:t>
                      </a: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ФАРМАЦЕУТСКО</a:t>
                      </a: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-T</a:t>
                      </a: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ЕХНОЛОШКОГ ПОСТУПКА ИЗРА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274" name="Rectangle 9"/>
          <p:cNvSpPr/>
          <p:nvPr/>
        </p:nvSpPr>
        <p:spPr>
          <a:xfrm>
            <a:off x="198000" y="1772280"/>
            <a:ext cx="393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Е К О В И Т И  О Б Л И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11280" y="2494080"/>
          <a:ext cx="4118040" cy="276120"/>
        </p:xfrm>
        <a:graphic>
          <a:graphicData uri="http://schemas.openxmlformats.org/drawingml/2006/table">
            <a:tbl>
              <a:tblPr/>
              <a:tblGrid>
                <a:gridCol w="4118040"/>
              </a:tblGrid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76" name="Rectangle 16"/>
          <p:cNvSpPr/>
          <p:nvPr/>
        </p:nvSpPr>
        <p:spPr>
          <a:xfrm>
            <a:off x="30240" y="2780280"/>
            <a:ext cx="429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ПРЕПАРАТ НА МЕСТУ ПРИМ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55640" y="3284640"/>
          <a:ext cx="4118040" cy="639720"/>
        </p:xfrm>
        <a:graphic>
          <a:graphicData uri="http://schemas.openxmlformats.org/drawingml/2006/table">
            <a:tbl>
              <a:tblPr/>
              <a:tblGrid>
                <a:gridCol w="41180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РАСПАД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РАСТВАРАЊЕ</a:t>
                      </a:r>
                      <a:r>
                        <a:rPr b="1" lang="en-U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</a:t>
                      </a:r>
                      <a:r>
                        <a:rPr b="1" lang="sr-R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РАСПРОСТИР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000076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78" name="Rectangle 23"/>
          <p:cNvSpPr/>
          <p:nvPr/>
        </p:nvSpPr>
        <p:spPr>
          <a:xfrm>
            <a:off x="5040" y="3933000"/>
            <a:ext cx="45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 НА МЕСТУ АПСОРП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84360" y="4724280"/>
          <a:ext cx="4117680" cy="822600"/>
        </p:xfrm>
        <a:graphic>
          <a:graphicData uri="http://schemas.openxmlformats.org/drawingml/2006/table">
            <a:tbl>
              <a:tblPr/>
              <a:tblGrid>
                <a:gridCol w="41176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ПСОРПЦИЈА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r>
                        <a:rPr b="1" i="1" lang="sr-R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РИБУЦИЈА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БОЛИЗАМ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ИМИНАЦИЈА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80" name="Rectangle 30"/>
          <p:cNvSpPr/>
          <p:nvPr/>
        </p:nvSpPr>
        <p:spPr>
          <a:xfrm>
            <a:off x="9720" y="5515560"/>
            <a:ext cx="434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i="1" lang="sr-Latn-CS" sz="1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 НА МЕСТУ ДЕЛОВА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684360" y="6165720"/>
          <a:ext cx="4117680" cy="274680"/>
        </p:xfrm>
        <a:graphic>
          <a:graphicData uri="http://schemas.openxmlformats.org/drawingml/2006/table">
            <a:tbl>
              <a:tblPr/>
              <a:tblGrid>
                <a:gridCol w="411768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ИЈСКО ДЕЛО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82" name="AutoShape 37"/>
          <p:cNvSpPr/>
          <p:nvPr/>
        </p:nvSpPr>
        <p:spPr>
          <a:xfrm>
            <a:off x="4753080" y="1133640"/>
            <a:ext cx="3959280" cy="968040"/>
          </a:xfrm>
          <a:prstGeom prst="leftArrowCallout">
            <a:avLst>
              <a:gd name="adj1" fmla="val 25002"/>
              <a:gd name="adj2" fmla="val 25000"/>
              <a:gd name="adj3" fmla="val 68167"/>
              <a:gd name="adj4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АРМАЦЕУТСКА</a:t>
            </a:r>
            <a:r>
              <a:rPr b="1" lang="sr-Latn-C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ХНОЛО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8"/>
          <p:cNvSpPr/>
          <p:nvPr/>
        </p:nvSpPr>
        <p:spPr>
          <a:xfrm>
            <a:off x="4932360" y="3284640"/>
            <a:ext cx="3384720" cy="609480"/>
          </a:xfrm>
          <a:prstGeom prst="leftArrowCallout">
            <a:avLst>
              <a:gd name="adj1" fmla="val 25002"/>
              <a:gd name="adj2" fmla="val 25000"/>
              <a:gd name="adj3" fmla="val 92558"/>
              <a:gd name="adj4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ИОФАР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9"/>
          <p:cNvSpPr/>
          <p:nvPr/>
        </p:nvSpPr>
        <p:spPr>
          <a:xfrm>
            <a:off x="4859280" y="6021360"/>
            <a:ext cx="3890880" cy="609480"/>
          </a:xfrm>
          <a:prstGeom prst="leftArrowCallout">
            <a:avLst>
              <a:gd name="adj1" fmla="val 25002"/>
              <a:gd name="adj2" fmla="val 25000"/>
              <a:gd name="adj3" fmla="val 106399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0"/>
          <p:cNvSpPr/>
          <p:nvPr/>
        </p:nvSpPr>
        <p:spPr>
          <a:xfrm>
            <a:off x="4859280" y="4797360"/>
            <a:ext cx="3889440" cy="609840"/>
          </a:xfrm>
          <a:prstGeom prst="leftArrowCallout">
            <a:avLst>
              <a:gd name="adj1" fmla="val 25002"/>
              <a:gd name="adj2" fmla="val 25000"/>
              <a:gd name="adj3" fmla="val 10629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1"/>
          <p:cNvSpPr/>
          <p:nvPr/>
        </p:nvSpPr>
        <p:spPr>
          <a:xfrm>
            <a:off x="4753080" y="2168640"/>
            <a:ext cx="4103640" cy="863640"/>
          </a:xfrm>
          <a:prstGeom prst="leftArrowCallout">
            <a:avLst>
              <a:gd name="adj1" fmla="val 25002"/>
              <a:gd name="adj2" fmla="val 25000"/>
              <a:gd name="adj3" fmla="val 7919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6783480" y="41400"/>
            <a:ext cx="245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АДМЕР систем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 лековите супстанц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фармаколошког делов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селск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ј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29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усвојен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ој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им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м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м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им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д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тет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коњен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ам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аљ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годнијег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ог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 су: начин апликације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и активне супстанце (ФАС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т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з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е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 и стабилност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орпориране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 лековит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шлости су сви лекови водили порекло од биљака и животи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природног порекла који су и данас у употреби су: антибиотици (пеницилин, стрептомицин), цитостатици (винкристин, винбластин), атропин, дигоксин, алкалоиди опијума (морф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ак већина лекова је добијена хемијским и биолошким процес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произведени рекомбинантном ДНК технологијом: хумани инсулин, хумани хормон раста, вакцина против хепатитиса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ПРЕПАРА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бинација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овит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пстанц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ексципијен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акован  у одговарајућу амбалаж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лно означ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еден доказаним процеси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валитета који одговара унапред утврђеној спецификац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Diagram 1" descr=""/>
          <p:cNvPicPr/>
          <p:nvPr/>
        </p:nvPicPr>
        <p:blipFill>
          <a:blip r:embed="rId1"/>
          <a:stretch/>
        </p:blipFill>
        <p:spPr>
          <a:xfrm>
            <a:off x="4091040" y="1603440"/>
            <a:ext cx="4718160" cy="45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еdiu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осилац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о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 супстанца ступа у интеракцију са делом организма и мења постојећи физиолошки или биохемијски проц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ienti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и индиферентне супстанце које се користе као носачи лековите супстанце, за олакшавање производног процеса и процеса либерације лековите супстанце, утичу на физичк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ажу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м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у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ошљивост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ексципијенса зависи од технолошких, биофармацеутских аспеката и стаби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компоненте лековитог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лековитог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одговарајућег лековитог облика (ослобађање лековите супстанце, апсорпц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 (стабилност, уједначеност садржа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, одговарајући фармацеутски облик и амбалажа утичу на квалитет, безбедност и ефикасност 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помоћних супстанци у лековитом препара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1337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цизност дозирањ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ако је доза л.с. мала мора се дисперговати у одговарајућем дилуенсу или средству за допуњавање да би се постигао одређен волумен/маса и тако прецизно извршила подела на д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овање органолептичких особ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ригенси укуса, мириса, боје који значајно утичу на комплијансу, нарочито код де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ослобађање л.с. из лековитог облик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зинтегратори, средства за кваш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ивачи апсорпци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код трансдермалне примене инхенсери пенетрације раскидају липидне сегменте на површини коже и повећавају пермеабилно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тор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зерванси, пуфери, антиоксидан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obrila</cp:lastModifiedBy>
  <dcterms:modified xsi:type="dcterms:W3CDTF">2024-08-28T12:59:47Z</dcterms:modified>
  <cp:revision>1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9d258917-277f-42cd-a3cd-14c4e9ee58bc_ActionId">
    <vt:lpwstr>5ea09873-de40-4b40-b98c-2c6ee90205cd</vt:lpwstr>
  </property>
  <property fmtid="{D5CDD505-2E9C-101B-9397-08002B2CF9AE}" pid="4" name="MSIP_Label_9d258917-277f-42cd-a3cd-14c4e9ee58bc_ContentBits">
    <vt:lpwstr>0</vt:lpwstr>
  </property>
  <property fmtid="{D5CDD505-2E9C-101B-9397-08002B2CF9AE}" pid="5" name="MSIP_Label_9d258917-277f-42cd-a3cd-14c4e9ee58bc_Enabled">
    <vt:lpwstr>true</vt:lpwstr>
  </property>
  <property fmtid="{D5CDD505-2E9C-101B-9397-08002B2CF9AE}" pid="6" name="MSIP_Label_9d258917-277f-42cd-a3cd-14c4e9ee58bc_Method">
    <vt:lpwstr>Standard</vt:lpwstr>
  </property>
  <property fmtid="{D5CDD505-2E9C-101B-9397-08002B2CF9AE}" pid="7" name="MSIP_Label_9d258917-277f-42cd-a3cd-14c4e9ee58bc_Name">
    <vt:lpwstr>restricted</vt:lpwstr>
  </property>
  <property fmtid="{D5CDD505-2E9C-101B-9397-08002B2CF9AE}" pid="8" name="MSIP_Label_9d258917-277f-42cd-a3cd-14c4e9ee58bc_SetDate">
    <vt:lpwstr>2022-09-17T13:18:45Z</vt:lpwstr>
  </property>
  <property fmtid="{D5CDD505-2E9C-101B-9397-08002B2CF9AE}" pid="9" name="MSIP_Label_9d258917-277f-42cd-a3cd-14c4e9ee58bc_SiteId">
    <vt:lpwstr>38ae3bcd-9579-4fd4-adda-b42e1495d55a</vt:lpwstr>
  </property>
</Properties>
</file>